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56F8-7EBA-45DA-ADE6-EF30B2405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5760-8EF9-4DB5-8E42-CF018BE80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5C35-0211-4E5C-B279-A2991256AD1F}" type="slidenum">
              <a:rPr b="0" lang="en-US" sz="1200" spc="-1" strike="noStrike">
                <a:solidFill>
                  <a:srgbClr val="3161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998-F846-4A69-88E9-849213A2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E32-1B02-47E5-BB43-13FC727B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239DB-8D2D-44FE-B8AE-A9FCD1AF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AEAAB-DBAC-428B-8430-7BD0D5B4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F45BC-4740-46E8-94CB-78CE92B2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3AAC1-47B0-4134-832E-F717CF7A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5F564-0BDA-4203-9647-A4A8116C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63D0F-9234-417D-A21F-EF75C338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25A29-C119-4D75-A684-224139B9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24FEE-A082-4E21-A43D-DFA77375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30A56-9EE9-42B8-86E9-30EE067D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5E682-6027-4FF5-AE39-4A3DFEF7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DEC-F187-4F9E-84B7-8B8F2602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1A97D-07FA-452D-9407-95B58524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EE9E5-205D-4862-A29A-51698C09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CA0F2-025F-41D4-8E22-3B323174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24BAC-F1F2-412E-A437-B59A5D30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02EE1-AD2E-46EB-8DDC-5C597C86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A6FDA-ACB0-4FBD-BB8B-18BD101A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27DBB-EC9D-4677-B813-DD8CC649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06A1D-2FDC-4FB0-B81C-04BBB734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50789-D00B-4FA1-8455-04D6F1A7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9F0CE-360D-498A-B755-3BC86C58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F32-255D-4F86-BDBB-FF0DDE0B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D3E34-0705-47E7-A191-3BFCAEC4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9F011-71B3-4510-9F95-A688B779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76E4C-0B1C-47EF-B59A-B0B83195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F6C84-225E-48D0-9FB1-3053D478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27BE2-84F2-40DF-866F-E730D2A1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02860-6EDF-409C-8165-EFB57599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C42C9-669A-44A2-81E7-589095FD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42CB0-B675-4821-A1D2-4594AF73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6FAD3-A911-4158-8E1E-F9DB5241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B4B7D-7FFA-468C-BA68-EF96697E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BAAA-E707-48EF-A14C-845FF775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AD8D0-5127-4CF8-8E00-4AB7253E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0EE2B-ABDB-4544-AFDF-B67ECB43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2EAF8-1FA9-441C-8DF2-5D631D9E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D3504-7BC8-4F27-B354-E7303D09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BB109-29E8-4BF6-B089-CA2C4487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98178-40EB-4309-A358-A6C45B19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99EDA-9131-406C-B4D5-E33AE9A5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AD1B4-8EE4-4D24-8AA6-F81775D9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B960C-DCD7-4326-BE2B-4F194F07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8C71B-FED7-4140-889B-64C39194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4D6E-3F39-47FC-AD68-4C9FE8BF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1813D-73E0-4C23-A1EC-425557AD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BAE26-B9A2-4545-9B54-FDD42168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C976E-627D-4A8C-ADDB-2AA15B37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A2B3F-5D61-47D5-9BA6-3E7270CE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4B0EC-6913-4DCF-9213-8E71A5D0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103C-0762-4597-BCAA-FB87BC26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8F79-8F34-414A-ACAA-91429B61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C065-BCFD-452A-A207-CF549233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D277-FE46-47FC-A12F-2C4192B7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CD7F-7859-4E21-BACF-8BC2D168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D7B-AB79-45AC-8FEB-E193AE30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5B92-64FB-405C-9B50-EA103434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D937-3FC8-4518-891B-6939979F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DEC0-EA6E-4C09-B790-DC237C21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D72B-D6E2-4565-B2EE-773EC76C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987A-5F71-4ED9-A513-DEBF781D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9FF53-C0D5-4011-9697-4B60A2EC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8AB2-D5BF-42C4-A9A6-364486B9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FE6EE-235C-4B54-9272-59DD15C3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C46C7-CEB9-41E2-98A1-79DDB092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3CB2E-384D-4C00-8158-B887D2B4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D07-3C2F-43F8-8EA4-2F6C2EB6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977B9-3BB0-4ACE-BAE3-AD4E3691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9D742-8DCD-4E6D-9039-B731C307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0AD24-BB25-46D1-9306-9B9129D8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41B84-36B3-42CD-9CDE-E5A59D28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9C70F-C32C-4BE2-B2C4-E7F354D0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6653-814C-4FD8-891F-0F466392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5711B-6B4E-4AC7-B2EE-8E099785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08DB3-3A0B-4769-9E81-C7E18491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90E2F-C1D3-4ABF-A80F-40A00FBF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3395E-342D-42C9-A19B-41F1440B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AE9-FD4B-4AEC-A9C8-E6CD5F24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670A9-058C-4141-9FD0-54AA08D9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56E37-5A9D-452B-9DFE-EE453C4A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6C1A7-15FA-47B1-87CB-5E0D0A45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459AE-CBA0-4DD1-8313-48F9DCC3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85778-0C58-486D-BBF9-6916561E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6AEDD-17B0-48A0-BF9C-04AAB894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5881D-FACF-49C9-A592-819507F8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78214-1BBE-4DF6-B586-18C6C9CE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D058C-0A30-49F7-A94D-0FE924CA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7A547-3491-4CF1-ABE0-F8E71B11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239-5EE5-4C0B-B300-1BC884D8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272B0-67D4-4113-B389-BD1A71BD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14FDE-B8DE-4EF0-9CCB-F3F27690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4DABB-BD40-46DE-BE05-22A4672C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FEC17-3369-4749-AD09-30931E34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AD6BD-F199-4A81-B915-99268A86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41A04-848F-4491-9B36-8F87CC2C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3CF2A-3EFD-4564-9D57-02CD4C66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7367B-49BC-4751-9F9A-F6BC93AD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BA7A9-2C6D-4531-A690-1D3F8B6A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CBEC2-BB1D-4438-B670-AC61FBEC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63F-55A5-4FD8-9E28-7E0C8DC3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B8EC3-6E31-41AC-A39A-EF00B0CD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E2F00-F28A-41EC-9A0B-A0AE617C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FE47C-905D-4BDA-BD75-1B149250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F0823-AA52-42C6-94BB-D1F7C8C9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C3535-6885-45F6-B34B-D92362F9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96FF5-C55C-4762-B622-13F0BD5B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BFFDF-6250-4444-B86A-EA237DB3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72086-EDC0-4D63-B24E-098CAAD8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49865-132A-48A5-AF15-F83543C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4A342-0680-44B7-8E38-E683A911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B5D-284B-4CAE-95F7-00D242A7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5DFB0-A353-44C9-BEEF-F006E860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1EF47-058A-43FF-A4A6-450EA8F6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680EA-FC0A-4AB5-9114-3F1375F2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393AD-FADC-40CC-B5EF-587A04C5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514BB-9DF3-4805-B0A3-5970D0EB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CDD94-A816-4254-837B-87CFE51F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EFC76-3CF5-4B76-A6A5-CC896B01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231DC-0D58-4D02-A483-812AEBFE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D116E-240D-4F88-B47D-BEC1988D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99835-7BA3-4842-85B0-A0CF7A14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22D-2089-4506-83A8-9112A958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FD876-918D-4848-A336-B0E1C41F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E556E-E537-4CED-BF74-705A6EA7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4F18E-65BD-49D8-BCAF-4E1FAF4B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4F060-F915-41D7-A66B-ADD82613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9EEAF-5B6A-4A60-BFE2-C024D28E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1AFC0-41C9-45F3-9B85-D1F66960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A6577-95D1-4AA2-A2D0-DF2221BF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50C7C-A76B-49B5-85B1-CD6A6CF8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DF3EF-C453-46F4-8F77-8F5F9723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08B4A-A9AF-4A19-A356-1EE26CB0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BCF-3A9E-4B3F-870F-3FAA3177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CE268-3BA4-45C9-B6FF-372081D8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33E97-44DD-43ED-BBF3-1F30217D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E6E92-1EA9-4C59-8724-858F6BB4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00CAF-260C-4AA2-B2B6-588EFC03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DE601-7ACF-4233-8F8F-11E0367A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5AB73-8230-466D-B4BF-722404C5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A4F45-FF7A-415C-8B1A-0635174B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6CA5E-2A7E-498C-868F-E04A7111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5F699-AD6A-430D-B3D6-E74A9F5D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DC632-9401-4016-9E50-82790CDB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F763-27AA-471D-997B-5A691FF251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B75C-05EB-4406-8E7D-69D89C8176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C8A2-3D71-470C-9BC6-0A9D37CAA9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61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FD04-DF9B-4265-AD1E-569BC386ED55}" type="slidenum">
              <a:rPr b="0" lang="en-US" sz="1000" spc="-1" strike="noStrike">
                <a:solidFill>
                  <a:srgbClr val="31612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4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B26A-DF82-46A8-8D7D-21177B72AB5A}" type="slidenum">
              <a:rPr b="0" lang="en-US" sz="1000" spc="-1" strike="noStrike">
                <a:solidFill>
                  <a:srgbClr val="c4ddc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25E7-103D-407B-A168-8AAC9DE195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BDED-91C4-40FD-BD41-2AA296CF0F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E998-1DFA-4E87-8CE7-50F27BF563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1B4E-00C7-4BDA-9BC7-5584BA1B51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BFE5-6BB6-457D-BC03-213B4E90FE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373E-4693-4663-8730-217273D6A3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9E36-38ED-4CCF-A3FB-8B20D2C026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769680"/>
            <a:ext cx="7772400" cy="433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4ddc3"/>
                </a:solidFill>
                <a:latin typeface="Arial Black"/>
              </a:rPr>
              <a:t>Area and </a:t>
            </a:r>
            <a:r>
              <a:rPr b="1" lang="en-US" sz="9000" spc="-1" strike="noStrike">
                <a:solidFill>
                  <a:srgbClr val="c4ddc3"/>
                </a:solidFill>
                <a:latin typeface="Arial Black"/>
              </a:rPr>
              <a:t>Perimeter</a:t>
            </a:r>
            <a:endParaRPr b="1" lang="en-US" sz="9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863680" y="5181480"/>
            <a:ext cx="2814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612d"/>
                </a:solidFill>
                <a:latin typeface="Times New Roman"/>
              </a:rPr>
              <a:t>By Christine Berg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612d"/>
                </a:solidFill>
                <a:latin typeface="Times New Roman"/>
              </a:rPr>
              <a:t>Edited by V T Hamilton</a:t>
            </a:r>
            <a:endParaRPr b="0" lang="en-US" sz="2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arallelogram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The rectangle becomes a parallelogram so the formula is the similar to a rectangle.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A=bh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Tri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The area of a triangle is one half of the length of the base times the height since a triangle is half of a parallelogram.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Tri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30" name="AutoShape 4"/>
          <p:cNvSpPr/>
          <p:nvPr/>
        </p:nvSpPr>
        <p:spPr>
          <a:xfrm rot="10771200">
            <a:off x="1980720" y="3276720"/>
            <a:ext cx="1905120" cy="1828800"/>
          </a:xfrm>
          <a:prstGeom prst="rtTriangle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1" name="AutoShape 9"/>
          <p:cNvSpPr/>
          <p:nvPr/>
        </p:nvSpPr>
        <p:spPr>
          <a:xfrm>
            <a:off x="1905120" y="3276720"/>
            <a:ext cx="1904760" cy="1828800"/>
          </a:xfrm>
          <a:prstGeom prst="rtTriangle">
            <a:avLst/>
          </a:prstGeom>
          <a:solidFill>
            <a:srgbClr val="8b1003"/>
          </a:solidFill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1372680" y="39625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4in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1523880" y="4343400"/>
            <a:ext cx="0" cy="76212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4" name="Line 12"/>
          <p:cNvSpPr/>
          <p:nvPr/>
        </p:nvSpPr>
        <p:spPr>
          <a:xfrm flipV="1">
            <a:off x="1523880" y="3200040"/>
            <a:ext cx="0" cy="76212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 flipH="1" flipV="1">
            <a:off x="1904760" y="5253840"/>
            <a:ext cx="609480" cy="504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6" name="Line 15"/>
          <p:cNvSpPr/>
          <p:nvPr/>
        </p:nvSpPr>
        <p:spPr>
          <a:xfrm>
            <a:off x="3048120" y="5257800"/>
            <a:ext cx="761760" cy="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2515680" y="51055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4in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8" name="Text Box 17"/>
          <p:cNvSpPr/>
          <p:nvPr/>
        </p:nvSpPr>
        <p:spPr>
          <a:xfrm>
            <a:off x="5318280" y="3032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9" name="Text Box 18"/>
          <p:cNvSpPr/>
          <p:nvPr/>
        </p:nvSpPr>
        <p:spPr>
          <a:xfrm>
            <a:off x="4114800" y="1600200"/>
            <a:ext cx="4822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rea of the square is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4 times 4 or 16 sq. 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rea of the </a:t>
            </a:r>
            <a:r>
              <a:rPr b="0" lang="en-US" sz="4000" spc="-1" strike="noStrike">
                <a:solidFill>
                  <a:srgbClr val="8b1003"/>
                </a:solidFill>
                <a:latin typeface="Times New Roman"/>
              </a:rPr>
              <a:t>triangle</a:t>
            </a: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 is one-half 16, or 8 sq.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1/2 b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1/2 (4)(4)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8 sq. 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40" name="TextBox 14"/>
          <p:cNvSpPr/>
          <p:nvPr/>
        </p:nvSpPr>
        <p:spPr>
          <a:xfrm>
            <a:off x="38088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612d"/>
                </a:solidFill>
                <a:latin typeface="Arial"/>
              </a:rPr>
              <a:t>Jc-schools.net</a:t>
            </a:r>
            <a:endParaRPr b="0" lang="en-US" sz="18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erimeter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he sum of the   lengths of </a:t>
            </a:r>
            <a:r>
              <a:rPr b="0" lang="en-US" sz="6500" spc="-1" strike="noStrike" u="sng">
                <a:solidFill>
                  <a:srgbClr val="31612d"/>
                </a:solidFill>
                <a:uFillTx/>
                <a:latin typeface="Arial"/>
              </a:rPr>
              <a:t>all</a:t>
            </a: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 sides of the figure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he number of  square units inside a figure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61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10301"/>
                </a:solidFill>
                <a:latin typeface="Arial Black"/>
              </a:rPr>
              <a:t>Calculating </a:t>
            </a:r>
            <a:br>
              <a:rPr sz="9000"/>
            </a:br>
            <a:r>
              <a:rPr b="1" lang="en-US" sz="9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9000" spc="-1" strike="noStrike">
              <a:solidFill>
                <a:srgbClr val="31612d"/>
              </a:solidFill>
              <a:latin typeface="Arial Black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Abbreviations: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A = Area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l=lengt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w=widt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b = base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h = height 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AREA MEASUREMEN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We measure area in square inches.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llow up each of your measurements with the following abbreviation: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1612d"/>
                </a:solidFill>
                <a:latin typeface="Arial"/>
              </a:rPr>
              <a:t>25 </a:t>
            </a: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Sq. in </a:t>
            </a:r>
            <a:endParaRPr b="0" lang="en-US" sz="5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Rect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o find the area multiply the length times the width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Rect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1612d"/>
                </a:solidFill>
                <a:latin typeface="Arial"/>
              </a:rPr>
              <a:t>A = lw</a:t>
            </a:r>
            <a:endParaRPr b="0" lang="en-US" sz="10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arallelogram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9360">
            <a:solidFill>
              <a:srgbClr val="01030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Draw a rectangle on graph paper. Cut off a </a:t>
            </a:r>
            <a:r>
              <a:rPr b="0" lang="en-US" sz="5500" spc="-1" strike="noStrike">
                <a:solidFill>
                  <a:srgbClr val="31612d"/>
                </a:solidFill>
                <a:latin typeface="Arial"/>
              </a:rPr>
              <a:t>triangle</a:t>
            </a: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 on one side and add it to the other. 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838080" y="5791320"/>
            <a:ext cx="1905120" cy="914400"/>
          </a:xfrm>
          <a:prstGeom prst="rect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3581280" y="5791320"/>
            <a:ext cx="1905120" cy="914400"/>
          </a:xfrm>
          <a:prstGeom prst="rect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8" name="Line 10"/>
          <p:cNvSpPr/>
          <p:nvPr/>
        </p:nvSpPr>
        <p:spPr>
          <a:xfrm flipV="1">
            <a:off x="3581280" y="5791320"/>
            <a:ext cx="609840" cy="914400"/>
          </a:xfrm>
          <a:prstGeom prst="line">
            <a:avLst/>
          </a:prstGeom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9" name="Line 11"/>
          <p:cNvSpPr/>
          <p:nvPr/>
        </p:nvSpPr>
        <p:spPr>
          <a:xfrm flipV="1">
            <a:off x="5486400" y="5791320"/>
            <a:ext cx="609480" cy="914400"/>
          </a:xfrm>
          <a:prstGeom prst="line">
            <a:avLst/>
          </a:prstGeom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0" name="Line 12"/>
          <p:cNvSpPr/>
          <p:nvPr/>
        </p:nvSpPr>
        <p:spPr>
          <a:xfrm>
            <a:off x="5486400" y="5791320"/>
            <a:ext cx="609480" cy="0"/>
          </a:xfrm>
          <a:prstGeom prst="line">
            <a:avLst/>
          </a:prstGeom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1" name="AutoShape 13"/>
          <p:cNvSpPr/>
          <p:nvPr/>
        </p:nvSpPr>
        <p:spPr>
          <a:xfrm>
            <a:off x="6324480" y="5791320"/>
            <a:ext cx="2514600" cy="914400"/>
          </a:xfrm>
          <a:prstGeom prst="parallelogram">
            <a:avLst>
              <a:gd name="adj" fmla="val 68750"/>
            </a:avLst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595440" y="5394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327852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66312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2-17T17:17:42Z</dcterms:created>
  <dc:creator>NNPS</dc:creator>
  <dc:description/>
  <dc:language>en-US</dc:language>
  <cp:lastModifiedBy>bethany.jackson</cp:lastModifiedBy>
  <cp:lastPrinted>2012-02-01T21:38:11Z</cp:lastPrinted>
  <dcterms:modified xsi:type="dcterms:W3CDTF">2012-03-10T15:55:47Z</dcterms:modified>
  <cp:revision>10</cp:revision>
  <dc:subject/>
  <dc:title>Area and Perimeter</dc:title>
</cp:coreProperties>
</file>